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74211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7428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2"/>
          </p:nvPr>
        </p:nvSpPr>
        <p:spPr>
          <a:xfrm>
            <a:off x="3821040" y="-36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3"/>
          </p:nvPr>
        </p:nvSpPr>
        <p:spPr>
          <a:xfrm>
            <a:off x="0" y="937872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4"/>
          </p:nvPr>
        </p:nvSpPr>
        <p:spPr>
          <a:xfrm>
            <a:off x="3821040" y="937872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62770-914E-4078-964A-4A8611909A90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6EC7D-B942-46C0-B289-601963EF6EA4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9E131-0391-4D6B-96E2-0B32EDA2C8D1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F89B8-0478-435D-BD43-4474A77CD187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E3920-3774-402A-BFD0-5DB4BE1D9A44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AD4CD-3A6B-489F-9ACE-17644C58EA7D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6688D-C135-4398-9E72-2CF91A65F29B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23B6E-E7BE-4F9E-9FB4-D0E494F48EF2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74640" y="46890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67AD0-737E-4447-AD55-D4FC65AB60BE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21D0A-3514-4B5A-BA55-2E9A025A4239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6F6C1-7AE9-4BF8-B051-8B60BC1D2AA1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12D17-4F48-421F-A78A-A4799B094D01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A6E1B-E5B4-4C46-86AD-C3A1937EEAD1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FF341-519C-46E4-AD81-66620A02C385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D2B5D-E5AF-4F6E-8109-BD0C837345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B6B1C-070C-4A1F-B4FC-FBA0D33397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9C8BF-CE24-4062-ADA2-137716A757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690DD-08CE-4948-9E48-BAA4DD68729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DA253-3C22-4991-98E3-F758C729125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1A8D4-9F5F-4121-8D86-54F64E0E95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DD81A-0A83-4CAC-9C6D-F9DD9AEBD2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D77E6-3BE1-46F9-8C16-F7219ABE28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A0E9D-F76C-42FF-B95F-7B538B6441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EFDD2-E94B-465E-A4DD-9E2657752A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DE315-864B-481B-8174-70A9139868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2ABBF-B7CC-4668-9772-045BF905BA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05372-E1F4-4B3B-B2FE-7DFCE2A61F57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179280" y="4292640"/>
            <a:ext cx="8785440" cy="2449440"/>
          </a:xfrm>
          <a:prstGeom prst="rect">
            <a:avLst/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◎</a:t>
            </a:r>
            <a:r>
              <a:rPr b="1" lang="en-US" sz="1400" spc="-1" strike="noStrike" u="sng">
                <a:solidFill>
                  <a:srgbClr val="ff0000"/>
                </a:solidFill>
                <a:uFillTx/>
                <a:latin typeface="돋움"/>
                <a:ea typeface="돋움"/>
              </a:rPr>
              <a:t>[</a:t>
            </a:r>
            <a:r>
              <a:rPr b="1" lang="ko-KR" sz="1400" spc="-1" strike="noStrike" u="sng">
                <a:solidFill>
                  <a:srgbClr val="ff0000"/>
                </a:solidFill>
                <a:uFillTx/>
                <a:latin typeface="돋움"/>
                <a:ea typeface="돋움"/>
              </a:rPr>
              <a:t>첨부</a:t>
            </a:r>
            <a:r>
              <a:rPr b="1" lang="en-US" sz="1400" spc="-1" strike="noStrike" u="sng">
                <a:solidFill>
                  <a:srgbClr val="ff0000"/>
                </a:solidFill>
                <a:uFillTx/>
                <a:latin typeface="돋움"/>
                <a:ea typeface="돋움"/>
              </a:rPr>
              <a:t>1] </a:t>
            </a:r>
            <a:r>
              <a:rPr b="1" lang="ko-KR" sz="1400" spc="-1" strike="noStrike" u="sng">
                <a:solidFill>
                  <a:srgbClr val="ff0000"/>
                </a:solidFill>
                <a:uFillTx/>
                <a:latin typeface="돋움"/>
                <a:ea typeface="돋움"/>
              </a:rPr>
              <a:t>과제 목록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의 각 과제별 평가방법</a:t>
            </a: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 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반드시 확인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◎ </a:t>
            </a:r>
            <a:r>
              <a:rPr b="0" lang="ko-KR" sz="1400" spc="-1" strike="noStrike">
                <a:solidFill>
                  <a:srgbClr val="000000"/>
                </a:solidFill>
                <a:latin typeface="돋움"/>
                <a:ea typeface="돋움"/>
              </a:rPr>
              <a:t>발표자료 작성 시 제공된 양식 사용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돋움"/>
                <a:ea typeface="돋움"/>
              </a:rPr>
              <a:t>본 파일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돋움"/>
                <a:ea typeface="돋움"/>
              </a:rPr>
              <a:t>발표자료의 구성 및 기본 양식은 변경할 수 없음</a:t>
            </a: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돋움"/>
                <a:ea typeface="돋움"/>
              </a:rPr>
              <a:t>폰트 및 배경 등 디자인 요소는 변경 가능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돋움"/>
                <a:ea typeface="돋움"/>
              </a:rPr>
              <a:t>발표자료의 페이지 수 제한 없음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돋움"/>
                <a:ea typeface="돋움"/>
              </a:rPr>
              <a:t>특수 폰트 및 애니메이션 효과는 구현되지 않으므로 사용 자제</a:t>
            </a: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, PDF </a:t>
            </a:r>
            <a:r>
              <a:rPr b="0" lang="ko-KR" sz="1400" spc="-1" strike="noStrike">
                <a:solidFill>
                  <a:srgbClr val="000000"/>
                </a:solidFill>
                <a:latin typeface="돋움"/>
                <a:ea typeface="돋움"/>
              </a:rPr>
              <a:t>파일로 변환하여 제출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※ 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제출 후</a:t>
            </a: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, 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접수된</a:t>
            </a: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 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파일은 절대 수정 불가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※ 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본 페이지는 발표자료에서 삭제해 주시기 바랍니다</a:t>
            </a: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Text Box 3"/>
          <p:cNvSpPr/>
          <p:nvPr/>
        </p:nvSpPr>
        <p:spPr>
          <a:xfrm>
            <a:off x="179280" y="133560"/>
            <a:ext cx="8785440" cy="861840"/>
          </a:xfrm>
          <a:prstGeom prst="rect">
            <a:avLst/>
          </a:prstGeom>
          <a:noFill/>
          <a:ln w="7632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발표자료 작성 시 주의사항</a:t>
            </a:r>
            <a:endParaRPr b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79280" y="1197000"/>
          <a:ext cx="8785440" cy="2808360"/>
        </p:xfrm>
        <a:graphic>
          <a:graphicData uri="http://schemas.openxmlformats.org/drawingml/2006/table">
            <a:tbl>
              <a:tblPr/>
              <a:tblGrid>
                <a:gridCol w="1782720"/>
                <a:gridCol w="7002720"/>
              </a:tblGrid>
              <a:tr h="5857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발표평가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10666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제출 방법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돋움"/>
                          <a:ea typeface="돋움"/>
                        </a:rPr>
                        <a:t>PDF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로 변환하여 제출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59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평가 시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RFP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설명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5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분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(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식약처 주관부서에서 진행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)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 / </a:t>
                      </a:r>
                      <a:r>
                        <a:rPr b="1" lang="ko-KR" sz="1400" spc="-1" strike="noStrike">
                          <a:solidFill>
                            <a:srgbClr val="ff0000"/>
                          </a:solidFill>
                          <a:latin typeface="돋움"/>
                          <a:ea typeface="돋움"/>
                        </a:rPr>
                        <a:t>발표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돋움"/>
                          <a:ea typeface="돋움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돋움"/>
                          <a:ea typeface="돋움"/>
                        </a:rPr>
                        <a:t>20</a:t>
                      </a:r>
                      <a:r>
                        <a:rPr b="1" lang="ko-KR" sz="1400" spc="-1" strike="noStrike">
                          <a:solidFill>
                            <a:srgbClr val="ff0000"/>
                          </a:solidFill>
                          <a:latin typeface="돋움"/>
                          <a:ea typeface="돋움"/>
                        </a:rPr>
                        <a:t>분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/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질의응답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15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7-1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당해연도 연구개발비 규모 및 비목별 예산편성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900000" y="1193760"/>
          <a:ext cx="7345440" cy="4827600"/>
        </p:xfrm>
        <a:graphic>
          <a:graphicData uri="http://schemas.openxmlformats.org/drawingml/2006/table">
            <a:tbl>
              <a:tblPr/>
              <a:tblGrid>
                <a:gridCol w="881280"/>
                <a:gridCol w="1158840"/>
                <a:gridCol w="928440"/>
                <a:gridCol w="2041560"/>
                <a:gridCol w="1113120"/>
                <a:gridCol w="1222200"/>
              </a:tblGrid>
              <a:tr h="562320">
                <a:tc gridSpan="3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                                 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구   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  목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연 구 개 발 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율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%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고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gridSpan="3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건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rowSpan="11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경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내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외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유인물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시험분석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전산처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시약 및 연구용 재료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회의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임차료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교통통신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감가상각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성과활용관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gridSpan="3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일반관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4920">
                <a:tc gridSpan="3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합         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60" name="Text Box 86"/>
          <p:cNvSpPr/>
          <p:nvPr/>
        </p:nvSpPr>
        <p:spPr>
          <a:xfrm>
            <a:off x="7020000" y="892080"/>
            <a:ext cx="145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단위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천원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7-2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국외출장의 적절성</a:t>
            </a:r>
            <a:br>
              <a:rPr sz="2000"/>
            </a:br>
            <a:br>
              <a:rPr sz="2000"/>
            </a:b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출 장 지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br>
              <a:rPr sz="2000"/>
            </a:br>
            <a:br>
              <a:rPr sz="2000"/>
            </a:b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출 장 자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br>
              <a:rPr sz="2000"/>
            </a:b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출장목적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br>
              <a:rPr sz="2000"/>
            </a:b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출 장 비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8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수행 일정의 적정성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9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목적하는 연구결과 도출 가능성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10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성과의 활용 가능성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과제제안서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RFP) 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RFP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참고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목표 </a:t>
            </a:r>
            <a:br>
              <a:rPr sz="2000"/>
            </a:br>
            <a:br>
              <a:rPr sz="2000"/>
            </a:b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 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주요연구내용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기대성과 및 활용분야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609480" y="549360"/>
            <a:ext cx="7925040" cy="5657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단위과제명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RFP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참고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과제명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</a:t>
            </a:r>
            <a:r>
              <a:rPr b="1" i="1" lang="en-US" sz="2000" spc="-1" strike="noStrike">
                <a:solidFill>
                  <a:srgbClr val="3333cc"/>
                </a:solidFill>
                <a:latin typeface="굴림"/>
              </a:rPr>
              <a:t> 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RFP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참고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과제번호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RFP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참고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접수번호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연구관리시스템상 접수번호 참고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주관연구책임자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주관연구기관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3333cc"/>
                </a:solidFill>
                <a:latin typeface="굴림"/>
              </a:rPr>
              <a:t>세부연구책임자 </a:t>
            </a:r>
            <a:r>
              <a:rPr b="1" lang="en-US" sz="2000" spc="-1" strike="noStrike">
                <a:solidFill>
                  <a:srgbClr val="3333cc"/>
                </a:solidFill>
                <a:latin typeface="굴림"/>
              </a:rPr>
              <a:t>: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해당사항 없으면 삭제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3333cc"/>
                </a:solidFill>
                <a:latin typeface="굴림"/>
              </a:rPr>
              <a:t>세부연구기관 </a:t>
            </a:r>
            <a:r>
              <a:rPr b="1" lang="en-US" sz="2000" spc="-1" strike="noStrike">
                <a:solidFill>
                  <a:srgbClr val="3333cc"/>
                </a:solidFill>
                <a:latin typeface="굴림"/>
              </a:rPr>
              <a:t>: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해당사항 없으면 삭제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기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    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년      월        일    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~      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년      월        일 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당해연도 연구개발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                  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천원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(RFP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상 연구비 기입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)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1.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목표 및 필요성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계획서와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RFP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의 부합성</a:t>
            </a: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범위 및 내용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추진전략 및 체계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책임자의 역량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업적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전문성 등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수행에 필요한 시설 및 장비 </a:t>
            </a:r>
            <a:r>
              <a:rPr b="1" i="1" lang="en-US" sz="1600" spc="-1" strike="noStrike">
                <a:solidFill>
                  <a:srgbClr val="0000ff"/>
                </a:solidFill>
                <a:latin typeface="굴림"/>
              </a:rPr>
              <a:t>(</a:t>
            </a:r>
            <a:r>
              <a:rPr b="1" i="1" lang="ko-KR" sz="1600" spc="-1" strike="noStrike">
                <a:solidFill>
                  <a:srgbClr val="0000ff"/>
                </a:solidFill>
                <a:latin typeface="굴림"/>
              </a:rPr>
              <a:t>해당사항 없으면 삭제</a:t>
            </a:r>
            <a:r>
              <a:rPr b="1" i="1" lang="en-US" sz="1600" spc="-1" strike="noStrike">
                <a:solidFill>
                  <a:srgbClr val="0000ff"/>
                </a:solidFill>
                <a:latin typeface="굴림"/>
              </a:rPr>
              <a:t>)</a:t>
            </a:r>
            <a:r>
              <a:rPr b="1" i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971640" y="1628640"/>
          <a:ext cx="7200720" cy="4105440"/>
        </p:xfrm>
        <a:graphic>
          <a:graphicData uri="http://schemas.openxmlformats.org/drawingml/2006/table">
            <a:tbl>
              <a:tblPr/>
              <a:tblGrid>
                <a:gridCol w="1893960"/>
                <a:gridCol w="822240"/>
                <a:gridCol w="1706400"/>
                <a:gridCol w="1957320"/>
                <a:gridCol w="820800"/>
              </a:tblGrid>
              <a:tr h="633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연구기자재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및 시설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수량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용도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확보 및 활용방안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고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471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9T04:24:03Z</dcterms:created>
  <dc:creator>SEC</dc:creator>
  <dc:description/>
  <dc:language>en-US</dc:language>
  <cp:lastModifiedBy>Administrator</cp:lastModifiedBy>
  <cp:lastPrinted>2020-02-04T06:07:16Z</cp:lastPrinted>
  <dcterms:modified xsi:type="dcterms:W3CDTF">2021-08-30T04:31:01Z</dcterms:modified>
  <cp:revision>104</cp:revision>
  <dc:subject/>
  <dc:title>2006년도 식품의약품안전청 공개발표 선정평가    ℹ 사 업 명 :   ℹ 과 제 명 :   ℹ 연 구 비 :   ℹ 신청기관 :   ℹ 주관연구책임자 :</dc:title>
</cp:coreProperties>
</file>